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4D6-06E6-41E5-8F1C-B440BA9D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260-35A7-4D35-95D4-89E90997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B45-6869-4D78-953F-80CACF3C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C81-1CB6-4151-8F61-5FFED46B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335-939F-4120-8A02-1A1B3A07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B3D-F8B2-46B3-80E7-7F9DD896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3AB-9EEC-4499-8789-8897DBA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663-476D-4CB6-9C87-C735935F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554-4133-4932-B33B-C256C5BF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FA7-90AD-4EA6-B3E8-14706A8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B02-F272-4915-801C-62D1E3E5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05D-2D4C-40E2-8F7F-427662F9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80DF-F765-4B03-A063-C5BF87A6AA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price mechanism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The role of the price mech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ources are allocated and re-allocated in response to changes in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re is an increase in the price of a good due to an increase in demand for the good there is a signal to the produc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ig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ells producers that consumers wish to buy this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ssume that producers are rational and wish to maximise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an incentive for them to produce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ers allocate more resources to those goods where the demand is highest (they will make more prof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not central planning ag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am Smith said it was like there was an invisible hand moving the factors of production around  to produce the goods and services wanted by the buyers in the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6659640" y="404640"/>
            <a:ext cx="216036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ce mechanis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forces of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invisible+hand+1"/>
          <p:cNvPicPr/>
          <p:nvPr/>
        </p:nvPicPr>
        <p:blipFill>
          <a:blip r:embed="rId1"/>
          <a:stretch/>
        </p:blipFill>
        <p:spPr>
          <a:xfrm>
            <a:off x="6084720" y="2565360"/>
            <a:ext cx="2857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Market efficiency – Consume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940360" y="189000"/>
            <a:ext cx="2879640" cy="2014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extra satisfaction (or utility) gained by consumers from paying a price that is lower than that they are prepared t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755640" y="90792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 surplus video: http://www.youtube.com/watch?feature=player_detailpage&amp;v=qTxniCLY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as-markets-consumer-surplus_clip_image001"/>
          <p:cNvPicPr/>
          <p:nvPr/>
        </p:nvPicPr>
        <p:blipFill>
          <a:blip r:embed="rId1"/>
          <a:srcRect l="0" t="13921" r="0" b="0"/>
          <a:stretch/>
        </p:blipFill>
        <p:spPr>
          <a:xfrm>
            <a:off x="1332000" y="2492280"/>
            <a:ext cx="64832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113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Market efficiency – Produce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through page 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ake 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k questions if you don’t underst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64000" y="260280"/>
            <a:ext cx="324036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excess of actual earnings that a producer makes from a given quantity of output, over and above the amount the producer would be prepared to accept for th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24000" y="256536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r surplus video: http://www.youtube.com/watch?v=MinxczZXtKA&amp;feature=player_detail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a2-micro-consumer-producer-surplus_clip_image001"/>
          <p:cNvPicPr/>
          <p:nvPr/>
        </p:nvPicPr>
        <p:blipFill>
          <a:blip r:embed="rId1"/>
          <a:stretch/>
        </p:blipFill>
        <p:spPr>
          <a:xfrm>
            <a:off x="2916360" y="2565360"/>
            <a:ext cx="58291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5367240" y="2830680"/>
            <a:ext cx="3886200" cy="3644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400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ive efficiency means that resources are allocated in the most efficient way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rom society’s point of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kind of efficiency is not the same as being efficient at operating like within a firm.  This is called productive efficiency and we will learn about that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we add consumer and producer surplus together this is the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community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ty surplus is the total benefit to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 the equilibrium community surplus is maxim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 point of 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no other combination of price or quantity  that could give greater community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refore the optimal allocation of resources from the point of view of society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940360" y="260280"/>
            <a:ext cx="2664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when a market is in equilibrium, with no external influences, it is said to be socially efficient or in a state of allocative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3851280" y="2174760"/>
            <a:ext cx="5038560" cy="4727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324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upply curve is largely determined by the industry’s costs of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ssume that the costs of the industry are equal to the costs to society then the supply curve represents the social cost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nalyse efficiency we call this the </a:t>
            </a:r>
            <a:r>
              <a:rPr b="0" i="1" lang="en-GB" sz="2200" spc="-1" strike="noStrike">
                <a:solidFill>
                  <a:srgbClr val="ff0000"/>
                </a:solidFill>
                <a:latin typeface="Arial"/>
              </a:rPr>
              <a:t>marginal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ocial cost cur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we will learn more about this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940360" y="260280"/>
            <a:ext cx="2664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ginal social costs (MSC) cur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supply curve represents the marginal social cost curve when the costs to industry are equal to the costs of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3851280" y="2289240"/>
            <a:ext cx="5038560" cy="4727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345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emand curve is determined by the utility, or benefits, that the consumption of a good or service brings to the consu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we assume the benefits in the market are equal to the benefits to society we can use the demand curve to represent the social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nalyse efficiency we refer to the demand curve as th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marginal social benefit curve (MS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940360" y="260280"/>
            <a:ext cx="2664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ginal social benefits (MSB) cur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demand curve represents the marginal social benefits curve when the benefits in the market are equivalent to the benefits to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7921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only a brief introduction to 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come back to it in a lot more detail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free market leads to 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y surplus is maximised so it is the optimum allocation of resources from society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occurs when demand is equal to supply or marginal social costs are equal to marginal soc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fore we get to the HL bit here is the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11344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omework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mplete the data response question on P44 (copp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ke sure you read the assessment ad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268832720copper"/>
          <p:cNvPicPr/>
          <p:nvPr/>
        </p:nvPicPr>
        <p:blipFill>
          <a:blip r:embed="rId1"/>
          <a:stretch/>
        </p:blipFill>
        <p:spPr>
          <a:xfrm>
            <a:off x="5219640" y="1413000"/>
            <a:ext cx="3549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L b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higher"/>
          <p:cNvPicPr/>
          <p:nvPr/>
        </p:nvPicPr>
        <p:blipFill>
          <a:blip r:embed="rId1"/>
          <a:stretch/>
        </p:blipFill>
        <p:spPr>
          <a:xfrm>
            <a:off x="1763640" y="1557360"/>
            <a:ext cx="5473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4_5_static_market_equilibrium"/>
          <p:cNvPicPr/>
          <p:nvPr/>
        </p:nvPicPr>
        <p:blipFill>
          <a:blip r:embed="rId1"/>
          <a:stretch/>
        </p:blipFill>
        <p:spPr>
          <a:xfrm>
            <a:off x="3851280" y="3057480"/>
            <a:ext cx="5073480" cy="38005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561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Calculating and illustrating market equilibrium using linear demand and supply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you are given the demand function and the supply function you easily plot the graphs of both and where they cross is the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ely you can work out the equilibrium using simultaneous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Work through page 39 to 43 and then complete student workpoint 3.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 of this section you should be abl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concept of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effect of changes in demand and supply upon the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concepts of excess demand and excess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L – calculate the market price and quantity using linea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 changing market equilibriums, identifying new equilibrium points, excess demand and excess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76000" y="2060280"/>
            <a:ext cx="67676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ringing market demand and supply curves togeth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ringing buyers (demanders) and sellers (suppliers) together creates what economist call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en we picture a market in our heads we tend to think of a fruit and veg market but a market does not even have to be physical  - it is just where buyers and sellers interact.  Transactions can by carried out by phone, mail order or over the intern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electronic market ebay"/>
          <p:cNvPicPr/>
          <p:nvPr/>
        </p:nvPicPr>
        <p:blipFill>
          <a:blip r:embed="rId1"/>
          <a:stretch/>
        </p:blipFill>
        <p:spPr>
          <a:xfrm>
            <a:off x="6372360" y="4508640"/>
            <a:ext cx="2558880" cy="255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fruit and veg market"/>
          <p:cNvPicPr/>
          <p:nvPr/>
        </p:nvPicPr>
        <p:blipFill>
          <a:blip r:embed="rId2"/>
          <a:stretch/>
        </p:blipFill>
        <p:spPr>
          <a:xfrm>
            <a:off x="0" y="0"/>
            <a:ext cx="308304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igh street"/>
          <p:cNvPicPr/>
          <p:nvPr/>
        </p:nvPicPr>
        <p:blipFill>
          <a:blip r:embed="rId3"/>
          <a:stretch/>
        </p:blipFill>
        <p:spPr>
          <a:xfrm>
            <a:off x="5975280" y="0"/>
            <a:ext cx="3168720" cy="21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tock market"/>
          <p:cNvPicPr/>
          <p:nvPr/>
        </p:nvPicPr>
        <p:blipFill>
          <a:blip r:embed="rId4"/>
          <a:stretch/>
        </p:blipFill>
        <p:spPr>
          <a:xfrm>
            <a:off x="0" y="4861080"/>
            <a:ext cx="30225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ch the mjm foodi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youtube.com/watch?v=322-ZPjGwGQ&amp;feature=player_embe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cales - balance"/>
          <p:cNvPicPr/>
          <p:nvPr/>
        </p:nvPicPr>
        <p:blipFill>
          <a:blip r:embed="rId1"/>
          <a:stretch/>
        </p:blipFill>
        <p:spPr>
          <a:xfrm>
            <a:off x="6458040" y="0"/>
            <a:ext cx="268596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640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quilib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order to analyse how a market works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g the demand and supply curve together and from now on w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raw our diagrams with both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is when supply satisfies demand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produced in the market will be s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are equal, there is balance/stability and there is no tendency for the market to change without external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ory the price system should produce equilibrium as we will see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628640" y="2924280"/>
            <a:ext cx="0" cy="353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630440" y="6461280"/>
            <a:ext cx="4728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440320" y="65102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of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903320" y="3197160"/>
            <a:ext cx="4078440" cy="288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1847880" y="3359160"/>
            <a:ext cx="3751200" cy="26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932360" y="5877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H="1">
            <a:off x="1630080" y="4557600"/>
            <a:ext cx="222876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862440" y="4557600"/>
            <a:ext cx="0" cy="1903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900000" y="4387680"/>
            <a:ext cx="6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459240" y="6510240"/>
            <a:ext cx="62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224320" y="4067280"/>
            <a:ext cx="23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rket equilibrium price is Pe and quantity is Q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932360" y="31417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3814920" y="3741840"/>
            <a:ext cx="28440" cy="799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193920" y="308304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79280" y="54450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 clearing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826920" y="4724280"/>
            <a:ext cx="289080" cy="720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49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rket disequilibrium and eliminating excess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lf righ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 fre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s says the producers increase their price to 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is price there will be Q1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is price there will be Q2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too much supply (excess supply) of Q1 –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rket is said to be in dis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rid of the surplus producers will have to supply at a lower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they do the quantity demanded will increase until once again demand equals supply and there is equilibrium onc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781360" y="3179880"/>
            <a:ext cx="1440" cy="274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82800" y="5925960"/>
            <a:ext cx="3675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908000" y="305604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740560" y="596412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994120" y="3390840"/>
            <a:ext cx="3168720" cy="223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2951280" y="3517560"/>
            <a:ext cx="2914560" cy="20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248440" y="536112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782440" y="4446720"/>
            <a:ext cx="17319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514760" y="4446720"/>
            <a:ext cx="1800" cy="1479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241720" y="431640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259160" y="59641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321160" y="32716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2782440" y="3772080"/>
            <a:ext cx="2745000" cy="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081160" y="364500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541680" y="3772080"/>
            <a:ext cx="1800" cy="215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089160" y="5964120"/>
            <a:ext cx="5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527800" y="3772080"/>
            <a:ext cx="1440" cy="215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238720" y="59641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4442760" y="5441760"/>
            <a:ext cx="122400" cy="1957320"/>
          </a:xfrm>
          <a:custGeom>
            <a:avLst/>
            <a:gdLst>
              <a:gd name="textAreaLeft" fmla="*/ 0 w 122400"/>
              <a:gd name="textAreaRight" fmla="*/ 44280 w 122400"/>
              <a:gd name="textAreaTop" fmla="*/ 50760 h 1957320"/>
              <a:gd name="textAreaBottom" fmla="*/ 1906560 h 19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100"/>
                </a:lnTo>
                <a:cubicBezTo>
                  <a:pt x="10800" y="9000"/>
                  <a:pt x="16200" y="9900"/>
                  <a:pt x="21600" y="9900"/>
                </a:cubicBezTo>
                <a:cubicBezTo>
                  <a:pt x="16200" y="9900"/>
                  <a:pt x="10800" y="10800"/>
                  <a:pt x="10800" y="117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376440" y="654372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ess Supply = Q2 –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297160" y="5937120"/>
            <a:ext cx="5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496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arket disequilibrium and eliminating excess de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ime producers tried to lower thei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too much demand at Q2 and not enough supply at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rket is in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sequilibriu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re i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excess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2 will be demanded but only Q1 will be supplied which means there will be a shortage (suppliers will sell ou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hortage off Q2 –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2323800" y="5460840"/>
            <a:ext cx="174600" cy="1295640"/>
          </a:xfrm>
          <a:custGeom>
            <a:avLst/>
            <a:gdLst>
              <a:gd name="textAreaLeft" fmla="*/ 0 w 174600"/>
              <a:gd name="textAreaRight" fmla="*/ 63000 w 174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100"/>
                </a:lnTo>
                <a:cubicBezTo>
                  <a:pt x="10800" y="9000"/>
                  <a:pt x="16200" y="9900"/>
                  <a:pt x="21600" y="9900"/>
                </a:cubicBezTo>
                <a:cubicBezTo>
                  <a:pt x="16200" y="9900"/>
                  <a:pt x="10800" y="10800"/>
                  <a:pt x="10800" y="117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87280" y="6308640"/>
            <a:ext cx="25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ess demand = Q2 –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076720" y="2898720"/>
            <a:ext cx="388800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eliminate the shortage producers have to raise thei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y do the quantity demanded will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 demand and supply will be equal again giving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179280" y="2997360"/>
            <a:ext cx="4537080" cy="3025800"/>
            <a:chOff x="179280" y="2997360"/>
            <a:chExt cx="4537080" cy="3025800"/>
          </a:xfrm>
        </p:grpSpPr>
        <p:sp>
          <p:nvSpPr>
            <p:cNvPr id="96" name="Line 7"/>
            <p:cNvSpPr/>
            <p:nvPr/>
          </p:nvSpPr>
          <p:spPr>
            <a:xfrm>
              <a:off x="798480" y="2997360"/>
              <a:ext cx="0" cy="26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798480" y="5618160"/>
              <a:ext cx="350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621240" y="56548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>
              <a:off x="1000080" y="3198960"/>
              <a:ext cx="302436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V="1">
              <a:off x="960480" y="3319560"/>
              <a:ext cx="2781360" cy="193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3635280" y="515772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 flipH="1">
              <a:off x="798120" y="4206960"/>
              <a:ext cx="1654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2452680" y="4206960"/>
              <a:ext cx="0" cy="141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395280" y="3933720"/>
              <a:ext cx="3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2195640" y="5654880"/>
              <a:ext cx="4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3564000" y="3141720"/>
              <a:ext cx="52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8"/>
            <p:cNvSpPr/>
            <p:nvPr/>
          </p:nvSpPr>
          <p:spPr>
            <a:xfrm flipH="1">
              <a:off x="798120" y="4651560"/>
              <a:ext cx="2259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179280" y="4525920"/>
              <a:ext cx="5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0"/>
            <p:cNvSpPr/>
            <p:nvPr/>
          </p:nvSpPr>
          <p:spPr>
            <a:xfrm>
              <a:off x="1806480" y="4651560"/>
              <a:ext cx="0" cy="966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1"/>
            <p:cNvSpPr/>
            <p:nvPr/>
          </p:nvSpPr>
          <p:spPr>
            <a:xfrm>
              <a:off x="1476360" y="5654880"/>
              <a:ext cx="4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3057480" y="4651560"/>
              <a:ext cx="0" cy="966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700360" y="56548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effects of changes in demand and supply on the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iously we looked at factors that shift the demand curve and supply curve – these are outside disturbances (nothing to do with the price although they will change the p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need to look at what those shifts do to the equilibrium price and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 life lots of things may change at the same time but to make it simple we only deal with single changes and assume that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teris parib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dition i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teris paribus is Latin for ‘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ll things being eq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– in other words nothing else has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s take the example of an increase in income for consumers of foreign 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is an increase in income there will be an increase in the demand for 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teris paribus there will be a shift of the demand curve to th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5357880" y="1268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5357880" y="4159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67800" y="4162320"/>
            <a:ext cx="1083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of holidays (day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5557680" y="1538280"/>
            <a:ext cx="3186360" cy="203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5619600" y="17017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896240" y="146052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388200" y="416232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5435640" y="1974960"/>
            <a:ext cx="318600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8539200" y="390528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5365440" y="2797200"/>
            <a:ext cx="2206440" cy="79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6721560" y="280188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140600" y="419112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900680" y="26020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8724960" y="3470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7547040" y="281304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 rot="16200000">
            <a:off x="4517280" y="1230480"/>
            <a:ext cx="158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 of holidays ($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The effects of changes in demand and supply on the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ly the price remains at the equilibrium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1 will be su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2 will be dema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will be excess demand (a short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et rid of the shortage prices will need to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til once again equilibrium is restored but at a higher price of P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w equilibrium quantity is Q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ever there is a shift of the demand or supply curve the market (if it is left alone) will adjust to a new equilibrium or market clearing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mplete student workpoint 3.1 P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57880" y="1268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5357880" y="4159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867800" y="4162320"/>
            <a:ext cx="1083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of holidays (day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5557680" y="1538280"/>
            <a:ext cx="3186360" cy="203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5619600" y="17017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896240" y="146052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388200" y="416232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5640" y="1974960"/>
            <a:ext cx="318600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539200" y="390528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5365440" y="2797200"/>
            <a:ext cx="2206440" cy="79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6721560" y="280188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7140600" y="419112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900680" y="26020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8724960" y="3470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547040" y="281304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 rot="16200000">
            <a:off x="4517280" y="1230480"/>
            <a:ext cx="158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 of holidays ($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4859280" y="220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364000" y="2492280"/>
            <a:ext cx="16480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>
            <a:off x="7093080" y="2468520"/>
            <a:ext cx="9360" cy="1681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6711840" y="422100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2:25:25Z</dcterms:created>
  <dc:creator>Rom</dc:creator>
  <dc:description/>
  <dc:language>en-US</dc:language>
  <cp:lastModifiedBy>Julia Peters</cp:lastModifiedBy>
  <dcterms:modified xsi:type="dcterms:W3CDTF">2012-09-20T04:05:59Z</dcterms:modified>
  <cp:revision>11</cp:revision>
  <dc:subject/>
  <dc:title>Market Equilibrium The price mechanisms and  Market efficiency  IB Economics</dc:title>
</cp:coreProperties>
</file>